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1CF-C2C0-4AE6-B6AE-F87E104F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9AA-378C-4E33-BBA5-2653203E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47D-014D-48D5-93A4-56EF8846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6BA-D94A-401F-BD38-25689B7F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4EE0-E400-477A-A199-324505FF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27D4-A572-4549-A6FE-9C8B9141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58D2-05F4-4207-A5F4-E5AF6197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C717-E7CA-4909-93AA-23B2BB58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5C92-9FDB-4AA9-BE08-EFEA7F61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BAF5-EF0A-4940-8A20-F1709DA9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DCDB-EF2A-4F68-AAE4-A2E6DD63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A3B-0401-49BB-B1C4-3397814A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71CB-E67A-465D-ABBE-695EC086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B2BD-8DCD-432A-8239-25D341BF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4F70-6F03-4B19-8309-D373A61E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8389-215A-480A-95EB-745DD1A7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BA1B-FF3C-47C7-B92A-DAC162FF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5FD-E31A-4CC9-A57C-8A8B5A33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0AB-8A93-41E3-AFE1-25CD162F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BB4-D701-44BE-AC9C-4D40DC34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1F4-0AFE-45DF-A9C7-7BD38E94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2C5-F63D-42FF-BBF2-8C8CC190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E56-E933-434B-AEA3-CEEE99DC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5D3-5850-4C5C-925A-804F7E52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2839-FE3A-40DD-8E3A-2CA8D3193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DC40-BE56-44E7-A78D-BB8E26092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TEL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57000" y="450828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artment Hea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14" descr="j0363472[1]"/>
          <p:cNvPicPr/>
          <p:nvPr/>
        </p:nvPicPr>
        <p:blipFill>
          <a:blip r:embed="rId1"/>
          <a:stretch/>
        </p:blipFill>
        <p:spPr>
          <a:xfrm>
            <a:off x="5221440" y="2997360"/>
            <a:ext cx="302256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uman Resources Department He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istant Director of Human Resour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orks closely with all other department heads to maintain employee satisfaction and to ensure that proper employment procedures are follow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Organization Chart 9"/>
          <p:cNvGrpSpPr/>
          <p:nvPr/>
        </p:nvGrpSpPr>
        <p:grpSpPr>
          <a:xfrm>
            <a:off x="2987640" y="4510080"/>
            <a:ext cx="3384000" cy="1294920"/>
            <a:chOff x="2987640" y="4510080"/>
            <a:chExt cx="3384000" cy="1294920"/>
          </a:xfrm>
        </p:grpSpPr>
        <p:cxnSp>
          <p:nvCxnSpPr>
            <p:cNvPr id="129" name="_s4100"/>
            <p:cNvCxnSpPr>
              <a:stCxn id="130" idx="0"/>
              <a:endCxn id="131" idx="2"/>
            </p:cNvCxnSpPr>
            <p:nvPr/>
          </p:nvCxnSpPr>
          <p:spPr>
            <a:xfrm flipV="1">
              <a:off x="4679280" y="5027400"/>
              <a:ext cx="3960" cy="259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4101"/>
            <p:cNvSpPr/>
            <p:nvPr/>
          </p:nvSpPr>
          <p:spPr>
            <a:xfrm>
              <a:off x="2987640" y="4510080"/>
              <a:ext cx="3384000" cy="518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irector of Human Resource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4102"/>
            <p:cNvSpPr/>
            <p:nvPr/>
          </p:nvSpPr>
          <p:spPr>
            <a:xfrm>
              <a:off x="2987640" y="5286960"/>
              <a:ext cx="3384000" cy="518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ssistant Director of H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ounting Department Hea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 large hotel, such as the one in our example, two or more department heads may support the financial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ssistant Controller(s) are responsible for specific accounting du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Organization Chart 5"/>
          <p:cNvGrpSpPr/>
          <p:nvPr/>
        </p:nvGrpSpPr>
        <p:grpSpPr>
          <a:xfrm>
            <a:off x="2016000" y="4005360"/>
            <a:ext cx="5434920" cy="1869480"/>
            <a:chOff x="2016000" y="4005360"/>
            <a:chExt cx="5434920" cy="1869480"/>
          </a:xfrm>
        </p:grpSpPr>
        <p:cxnSp>
          <p:nvCxnSpPr>
            <p:cNvPr id="135" name="_s5124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5277600" y="4207680"/>
              <a:ext cx="374400" cy="1464120"/>
            </a:xfrm>
            <a:prstGeom prst="bentConnector3">
              <a:avLst>
                <a:gd name="adj1" fmla="val 415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5125"/>
            <p:cNvCxnSpPr>
              <a:stCxn id="139" idx="0"/>
              <a:endCxn id="137" idx="2"/>
            </p:cNvCxnSpPr>
            <p:nvPr/>
          </p:nvCxnSpPr>
          <p:spPr>
            <a:xfrm flipH="1" flipV="1" rot="5400000">
              <a:off x="3814200" y="4208040"/>
              <a:ext cx="374400" cy="1463400"/>
            </a:xfrm>
            <a:prstGeom prst="bentConnector3">
              <a:avLst>
                <a:gd name="adj1" fmla="val 415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5126"/>
            <p:cNvSpPr/>
            <p:nvPr/>
          </p:nvSpPr>
          <p:spPr>
            <a:xfrm>
              <a:off x="3478680" y="4005360"/>
              <a:ext cx="2508480" cy="747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Financial Controller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5127"/>
            <p:cNvSpPr/>
            <p:nvPr/>
          </p:nvSpPr>
          <p:spPr>
            <a:xfrm>
              <a:off x="2016000" y="5127120"/>
              <a:ext cx="2508480" cy="747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Assistant Controller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(Operations)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_s5128"/>
            <p:cNvSpPr/>
            <p:nvPr/>
          </p:nvSpPr>
          <p:spPr>
            <a:xfrm>
              <a:off x="4942440" y="5127120"/>
              <a:ext cx="2508480" cy="747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Assistant Controller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(Finance)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ccounting Department Heads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ssistant Controller in charge of operations may oversee the reporting and accuracy of documentation regarding the outlets, ancillary revenue sources, and attractions within the res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ssistant Controller in charge of finance may oversee the credit policies, night audit, and the payables/receivables f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ort Exam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in the example of a large resort, other department heads would be in pl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department heads are unique and would vary on the size and scope of the hotel’s attr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positions are focused on the management of certain recreational and physical landscape aspects of the hot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rt Deployment Example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Organization Chart 42"/>
          <p:cNvGrpSpPr/>
          <p:nvPr/>
        </p:nvGrpSpPr>
        <p:grpSpPr>
          <a:xfrm>
            <a:off x="566640" y="1825560"/>
            <a:ext cx="3924000" cy="4267080"/>
            <a:chOff x="566640" y="1825560"/>
            <a:chExt cx="3924000" cy="4267080"/>
          </a:xfrm>
        </p:grpSpPr>
        <p:cxnSp>
          <p:nvCxnSpPr>
            <p:cNvPr id="146" name="_s6148"/>
            <p:cNvCxnSpPr>
              <a:stCxn id="147" idx="1"/>
              <a:endCxn id="148" idx="2"/>
            </p:cNvCxnSpPr>
            <p:nvPr/>
          </p:nvCxnSpPr>
          <p:spPr>
            <a:xfrm rot="10800000">
              <a:off x="1743120" y="2326680"/>
              <a:ext cx="393120" cy="351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6149"/>
            <p:cNvCxnSpPr>
              <a:stCxn id="150" idx="1"/>
              <a:endCxn id="148" idx="2"/>
            </p:cNvCxnSpPr>
            <p:nvPr/>
          </p:nvCxnSpPr>
          <p:spPr>
            <a:xfrm rot="10800000">
              <a:off x="1743120" y="2326680"/>
              <a:ext cx="393120" cy="276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6150"/>
            <p:cNvCxnSpPr>
              <a:stCxn id="152" idx="1"/>
              <a:endCxn id="148" idx="2"/>
            </p:cNvCxnSpPr>
            <p:nvPr/>
          </p:nvCxnSpPr>
          <p:spPr>
            <a:xfrm rot="10800000">
              <a:off x="1743120" y="2326680"/>
              <a:ext cx="393120" cy="2010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6151"/>
            <p:cNvCxnSpPr>
              <a:stCxn id="154" idx="1"/>
              <a:endCxn id="148" idx="2"/>
            </p:cNvCxnSpPr>
            <p:nvPr/>
          </p:nvCxnSpPr>
          <p:spPr>
            <a:xfrm rot="10800000">
              <a:off x="1743120" y="2326680"/>
              <a:ext cx="393120" cy="125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6152"/>
            <p:cNvCxnSpPr>
              <a:stCxn id="156" idx="1"/>
              <a:endCxn id="148" idx="2"/>
            </p:cNvCxnSpPr>
            <p:nvPr/>
          </p:nvCxnSpPr>
          <p:spPr>
            <a:xfrm rot="10800000">
              <a:off x="1743120" y="2326680"/>
              <a:ext cx="393120" cy="50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" name="_s6153"/>
            <p:cNvSpPr/>
            <p:nvPr/>
          </p:nvSpPr>
          <p:spPr>
            <a:xfrm>
              <a:off x="566640" y="1825560"/>
              <a:ext cx="2354400" cy="501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Director of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Recreation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_s6154"/>
            <p:cNvSpPr/>
            <p:nvPr/>
          </p:nvSpPr>
          <p:spPr>
            <a:xfrm>
              <a:off x="2136240" y="2578320"/>
              <a:ext cx="2354400" cy="501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Golf Pro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_s6155"/>
            <p:cNvSpPr/>
            <p:nvPr/>
          </p:nvSpPr>
          <p:spPr>
            <a:xfrm>
              <a:off x="2136240" y="3331440"/>
              <a:ext cx="2354400" cy="501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Tennis Pro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_s6156"/>
            <p:cNvSpPr/>
            <p:nvPr/>
          </p:nvSpPr>
          <p:spPr>
            <a:xfrm>
              <a:off x="2136240" y="4084560"/>
              <a:ext cx="2354400" cy="501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Manager of Aquatic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_s6157"/>
            <p:cNvSpPr/>
            <p:nvPr/>
          </p:nvSpPr>
          <p:spPr>
            <a:xfrm>
              <a:off x="2136240" y="4837680"/>
              <a:ext cx="2354400" cy="501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Spa Manager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_s6158"/>
            <p:cNvSpPr/>
            <p:nvPr/>
          </p:nvSpPr>
          <p:spPr>
            <a:xfrm>
              <a:off x="2136240" y="5590800"/>
              <a:ext cx="2351880" cy="501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Children’s Activity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Manager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" name="Organization Chart 54"/>
          <p:cNvGrpSpPr/>
          <p:nvPr/>
        </p:nvGrpSpPr>
        <p:grpSpPr>
          <a:xfrm>
            <a:off x="4824360" y="1824120"/>
            <a:ext cx="3924000" cy="2036160"/>
            <a:chOff x="4824360" y="1824120"/>
            <a:chExt cx="3924000" cy="2036160"/>
          </a:xfrm>
        </p:grpSpPr>
        <p:cxnSp>
          <p:nvCxnSpPr>
            <p:cNvPr id="158" name="_s6161"/>
            <p:cNvCxnSpPr>
              <a:stCxn id="159" idx="1"/>
              <a:endCxn id="160" idx="2"/>
            </p:cNvCxnSpPr>
            <p:nvPr/>
          </p:nvCxnSpPr>
          <p:spPr>
            <a:xfrm rot="10800000">
              <a:off x="6000840" y="2332440"/>
              <a:ext cx="393120" cy="127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162"/>
            <p:cNvCxnSpPr>
              <a:stCxn id="162" idx="1"/>
              <a:endCxn id="160" idx="2"/>
            </p:cNvCxnSpPr>
            <p:nvPr/>
          </p:nvCxnSpPr>
          <p:spPr>
            <a:xfrm rot="10800000">
              <a:off x="6000840" y="2333160"/>
              <a:ext cx="393120" cy="509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0" name="_s6163"/>
            <p:cNvSpPr/>
            <p:nvPr/>
          </p:nvSpPr>
          <p:spPr>
            <a:xfrm>
              <a:off x="4824360" y="1824120"/>
              <a:ext cx="2354400" cy="50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Director of Ground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_s6164"/>
            <p:cNvSpPr/>
            <p:nvPr/>
          </p:nvSpPr>
          <p:spPr>
            <a:xfrm>
              <a:off x="6393960" y="2587680"/>
              <a:ext cx="2354400" cy="50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Head Groundskeeper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_s6165"/>
            <p:cNvSpPr/>
            <p:nvPr/>
          </p:nvSpPr>
          <p:spPr>
            <a:xfrm>
              <a:off x="6393960" y="3351240"/>
              <a:ext cx="2354400" cy="50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Golf Ranger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3" name="Text Box 68"/>
          <p:cNvSpPr/>
          <p:nvPr/>
        </p:nvSpPr>
        <p:spPr>
          <a:xfrm>
            <a:off x="7667640" y="5992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5-1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oms Division Department Hea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nt Office Manag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department head responsible for a large portion of the most visible aspects of the hotel’s day-to-day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rector of Servi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n be viewed as the “behind-the-scenes” version of the front office mana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ont Office Manag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ront Office Manager directs the day-to-day activities of the front desk and the uniform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 to the Front Office Manager a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nt Desk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nt Desk Supervis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nt Desk Agent/Guest Service Attend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ll Capt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ll Staf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or Per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et/Garage Supervis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et Parking Attend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ont Office Manager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 to the Front Office Manager (Cont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king Garage Attend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BX Supervis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BX 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cierge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rector Of Servi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rector of Services is responsible for the hotel’s housekeeping and laundry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 to the Director of Services a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sekeeping Manager/Executive Housekeep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Executive Housekeep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s Inspector/Senior Housekee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sekeepers/Room Attend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seper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undry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en Room Attend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ilor/Seamst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od and Beverage Department Hea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 resort or large hotel, the Food and Beverage Director would oversee a very large op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 to the Food and Beverage Director ar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cutive Che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or of Cat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or of Convention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or of Restaur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verage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od and Beverage Department Hea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Organization Chart 7"/>
          <p:cNvGrpSpPr/>
          <p:nvPr/>
        </p:nvGrpSpPr>
        <p:grpSpPr>
          <a:xfrm>
            <a:off x="826920" y="1916280"/>
            <a:ext cx="7163280" cy="3820680"/>
            <a:chOff x="826920" y="1916280"/>
            <a:chExt cx="7163280" cy="3820680"/>
          </a:xfrm>
        </p:grpSpPr>
        <p:cxnSp>
          <p:nvCxnSpPr>
            <p:cNvPr id="100" name="_s1028"/>
            <p:cNvCxnSpPr>
              <a:stCxn id="101" idx="1"/>
              <a:endCxn id="102" idx="2"/>
            </p:cNvCxnSpPr>
            <p:nvPr/>
          </p:nvCxnSpPr>
          <p:spPr>
            <a:xfrm rot="10800000">
              <a:off x="2975040" y="2365200"/>
              <a:ext cx="716760" cy="314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29"/>
            <p:cNvCxnSpPr>
              <a:stCxn id="104" idx="1"/>
              <a:endCxn id="102" idx="2"/>
            </p:cNvCxnSpPr>
            <p:nvPr/>
          </p:nvCxnSpPr>
          <p:spPr>
            <a:xfrm rot="10800000">
              <a:off x="2975040" y="2365200"/>
              <a:ext cx="716760" cy="247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1"/>
              <a:endCxn id="102" idx="2"/>
            </p:cNvCxnSpPr>
            <p:nvPr/>
          </p:nvCxnSpPr>
          <p:spPr>
            <a:xfrm rot="10800000">
              <a:off x="2975040" y="2365200"/>
              <a:ext cx="716760" cy="1799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8" idx="1"/>
              <a:endCxn id="102" idx="2"/>
            </p:cNvCxnSpPr>
            <p:nvPr/>
          </p:nvCxnSpPr>
          <p:spPr>
            <a:xfrm rot="10800000">
              <a:off x="2975040" y="2365200"/>
              <a:ext cx="716760" cy="112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2"/>
            <p:cNvCxnSpPr>
              <a:stCxn id="110" idx="1"/>
              <a:endCxn id="102" idx="2"/>
            </p:cNvCxnSpPr>
            <p:nvPr/>
          </p:nvCxnSpPr>
          <p:spPr>
            <a:xfrm rot="10800000">
              <a:off x="2975040" y="2365200"/>
              <a:ext cx="716760" cy="45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1033"/>
            <p:cNvSpPr/>
            <p:nvPr/>
          </p:nvSpPr>
          <p:spPr>
            <a:xfrm>
              <a:off x="826920" y="1916280"/>
              <a:ext cx="4298040" cy="449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Director of Food and Beverag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_s1034"/>
            <p:cNvSpPr/>
            <p:nvPr/>
          </p:nvSpPr>
          <p:spPr>
            <a:xfrm>
              <a:off x="3692160" y="2590560"/>
              <a:ext cx="4298040" cy="449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xecutive Chef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_s1035"/>
            <p:cNvSpPr/>
            <p:nvPr/>
          </p:nvSpPr>
          <p:spPr>
            <a:xfrm>
              <a:off x="3692160" y="3265200"/>
              <a:ext cx="4298040" cy="449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irector of Catering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_s1036"/>
            <p:cNvSpPr/>
            <p:nvPr/>
          </p:nvSpPr>
          <p:spPr>
            <a:xfrm>
              <a:off x="3692160" y="3939840"/>
              <a:ext cx="4298040" cy="449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irector of Convention Service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_s1037"/>
            <p:cNvSpPr/>
            <p:nvPr/>
          </p:nvSpPr>
          <p:spPr>
            <a:xfrm>
              <a:off x="3692160" y="4614480"/>
              <a:ext cx="4298040" cy="449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irector of Restaurant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_s1038"/>
            <p:cNvSpPr/>
            <p:nvPr/>
          </p:nvSpPr>
          <p:spPr>
            <a:xfrm>
              <a:off x="3692160" y="5288760"/>
              <a:ext cx="4298040" cy="448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everage Manage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1" name="Text Box 20"/>
          <p:cNvSpPr/>
          <p:nvPr/>
        </p:nvSpPr>
        <p:spPr>
          <a:xfrm>
            <a:off x="7812000" y="59929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5-6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les Department Hea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rector of Group Sa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responsible specifically for the group room sales ef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ten the Director of Group Sales is personally responsible for key/focus accounts that have important and/or long-term impact on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Organization Chart 16"/>
          <p:cNvGrpSpPr/>
          <p:nvPr/>
        </p:nvGrpSpPr>
        <p:grpSpPr>
          <a:xfrm>
            <a:off x="684360" y="4151160"/>
            <a:ext cx="7740360" cy="1654200"/>
            <a:chOff x="684360" y="4151160"/>
            <a:chExt cx="7740360" cy="1654200"/>
          </a:xfrm>
        </p:grpSpPr>
        <p:cxnSp>
          <p:nvCxnSpPr>
            <p:cNvPr id="115" name="_s2052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430960" y="3935160"/>
              <a:ext cx="330840" cy="2085120"/>
            </a:xfrm>
            <a:prstGeom prst="bentConnector3">
              <a:avLst>
                <a:gd name="adj1" fmla="val 34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053"/>
            <p:cNvCxnSpPr>
              <a:stCxn id="119" idx="0"/>
              <a:endCxn id="117" idx="2"/>
            </p:cNvCxnSpPr>
            <p:nvPr/>
          </p:nvCxnSpPr>
          <p:spPr>
            <a:xfrm flipH="1" flipV="1" rot="5400000">
              <a:off x="3346920" y="3935520"/>
              <a:ext cx="330840" cy="2084760"/>
            </a:xfrm>
            <a:prstGeom prst="bentConnector3">
              <a:avLst>
                <a:gd name="adj1" fmla="val 34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2054"/>
            <p:cNvSpPr/>
            <p:nvPr/>
          </p:nvSpPr>
          <p:spPr>
            <a:xfrm>
              <a:off x="2768760" y="4151160"/>
              <a:ext cx="3571560" cy="662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Director of Marketing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5"/>
            <p:cNvSpPr/>
            <p:nvPr/>
          </p:nvSpPr>
          <p:spPr>
            <a:xfrm>
              <a:off x="684360" y="5143320"/>
              <a:ext cx="3571560" cy="662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Director of Group Sale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_s2056"/>
            <p:cNvSpPr/>
            <p:nvPr/>
          </p:nvSpPr>
          <p:spPr>
            <a:xfrm>
              <a:off x="4853160" y="5143320"/>
              <a:ext cx="3571560" cy="662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Director of Transient Sale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gineering Department 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ief Engine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ordinates the day-to-day maintenance of the hotel’s physical struct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sleeping rooms are the main product of the hotel, the chief engineer may spend most of his/her time checking and assigning sleeping room repair du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Organization Chart 5"/>
          <p:cNvGrpSpPr/>
          <p:nvPr/>
        </p:nvGrpSpPr>
        <p:grpSpPr>
          <a:xfrm>
            <a:off x="3024360" y="4724280"/>
            <a:ext cx="3202560" cy="1296720"/>
            <a:chOff x="3024360" y="4724280"/>
            <a:chExt cx="3202560" cy="1296720"/>
          </a:xfrm>
        </p:grpSpPr>
        <p:cxnSp>
          <p:nvCxnSpPr>
            <p:cNvPr id="123" name="_s3076"/>
            <p:cNvCxnSpPr>
              <a:stCxn id="124" idx="0"/>
              <a:endCxn id="125" idx="2"/>
            </p:cNvCxnSpPr>
            <p:nvPr/>
          </p:nvCxnSpPr>
          <p:spPr>
            <a:xfrm flipV="1">
              <a:off x="4625280" y="5242680"/>
              <a:ext cx="3960" cy="25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3077"/>
            <p:cNvSpPr/>
            <p:nvPr/>
          </p:nvSpPr>
          <p:spPr>
            <a:xfrm>
              <a:off x="3024360" y="4724280"/>
              <a:ext cx="3202560" cy="518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irector of Engineering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3078"/>
            <p:cNvSpPr/>
            <p:nvPr/>
          </p:nvSpPr>
          <p:spPr>
            <a:xfrm>
              <a:off x="3024360" y="5502240"/>
              <a:ext cx="3202560" cy="518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hief Enginee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1T09:55:49Z</dcterms:modified>
  <cp:revision>157</cp:revision>
  <dc:subject/>
  <dc:title>FRONT OFFICE OPERATIONS MANAGEMENT</dc:title>
</cp:coreProperties>
</file>